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F2E6-E9D6-4D2E-BBD2-D929F4734B65}" type="slidenum"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celery in beaker with food colouring, one with nail polish on leaves, other without.  Students write what will and happen and w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D8F9-72AB-4911-BBCA-47AA84366093}" type="slidenum">
              <a:rPr b="0" lang="es-C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7F02-355C-462D-9BE3-BA3A838F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DC1-9C10-46F4-9F95-18A5FDE9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3D2-F1ED-41B4-8F4D-917357EF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0F9-B778-42F1-9CFD-5877EFA3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1BF3-532F-4C51-AA15-6A975997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520E-1B96-429A-8A6C-C2AA3FFA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5CA0-03E0-4DCB-B69F-8D31FA5A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A2AA-1790-4733-ABF1-A4091243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D6E2-6C43-4062-BE0B-F1F65749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37C2-DEE2-4FF4-8B15-FEB5DC90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2DF4-3007-420A-8D57-A515832C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736-AB37-44D0-9E85-5ED77E54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035F-8EC6-49CE-92E3-9B1A967A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A9EA-BA9F-42E3-9394-88F539A2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372B-99A4-4AC8-A4B7-ACE4F8AA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C8B4-4C65-47A6-B9AE-72E08C75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92DA-A6D8-433F-A126-4F86CA9E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A183B-0E5E-47AB-B0D7-E146EB4D0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0E6BD8-6778-469B-BD9F-2E15ED70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ABBE5-D2D0-48E5-AF25-9A6F5D66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6EA13C-794F-4B89-B32A-4A174B1D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4B230-4B15-417B-BBCF-5DD43EF1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5E7-F183-4F2F-A778-7160722F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4E642-D57C-4A41-9BDF-88F874F2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BAAE6-3B56-41A7-9B1B-17D29D71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6560A-42E4-4401-BFEE-A2D4FFC4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9E839-EBB2-49DC-826E-9517DAA0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27D069-D66C-4D0A-A9D4-D227581E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612A1-FEE6-4D36-83B4-F312623B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813E5-D746-4BF9-87A6-A0365E5D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F1F10-90AF-4CAA-B74F-48A9C20F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944B2-7EE1-4E79-AB7C-0709051B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E77F4-DDDD-4E51-9D82-86E593AC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0AD-6142-4F74-B69C-6D1DFE04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17BED-BE84-434C-A404-B392F452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238F9-C14F-48A2-833A-875B34E0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106A6-013A-4AE9-A3E8-50C4AFAB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BFF4D-C216-495C-A4A6-96EED6CD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D1284-3EF5-4B6E-BF97-ADAF7AA4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7F024-54E7-448D-B169-1AB4835E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D05D8-1A0C-4C40-8CF0-7B9A458D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931D4-18C2-4EC4-8F76-8E7273F37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68DBC-7412-49A1-BC08-7D2A4828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B78BD-1B4A-4970-9FBA-72A17121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9C14-E7E4-4380-B1F6-093A2D7C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C0ACE3-0B6B-41C1-82A9-29EAC499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A8D97-63A3-453B-82A3-BA76F675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146087-73E1-4691-9DC2-E0E3C276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1F11C5-F8F5-4A5B-A321-57DC9170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11ABBB-4021-43F7-8CC1-C2549A96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6B588-3931-42DD-AB71-6F2A8281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03E76-338A-4A5C-B603-5AEC2174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012A5-01D5-4A4C-A5C0-2DAB3D39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D6242-6132-47EB-A9CB-76EAA655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901670-9019-4E48-B632-C0F2316E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703-9DA9-455C-A7A1-533AF07F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DC229-4A89-4B27-8A66-07ABDEB4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BD035-F1EC-4814-9B70-0F4C1A9F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36D40B-EDC6-4F1F-915A-29708F90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8F0F93-8447-4F09-B76B-C36FB0B8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129F9-B583-48D5-8D1E-39EB0E72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98E215-1CE5-49B6-8711-6353EB79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0F6B1C-EA22-4CE8-A66A-EB834632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8CF949-5FB6-4D90-A480-7C3B6D8A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8CE44A-E4A4-4A7B-9BA8-FA651AA2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92B6D-556C-4DB0-AAB0-08923E82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297-F904-4011-9B10-15A3D734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CE7B39-1EBB-4340-8E9C-786D38C7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B8C8FE-5396-485D-B22C-2701BC6A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12CC05-87CA-4B43-A02C-41C26C2C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6F0843-3450-4E50-B2FB-773A2AB7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0AF363-CFAF-441D-85F9-C4A032ED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23529B-1C1D-4BE8-A490-59446225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5103D-148C-4073-AF4B-38F0E5BA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1741F5-A310-4B84-BE8B-A376A9B7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945BE0-8F3A-4A2A-BE60-DC99192A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32A6D-5CC0-433D-8D01-E743EEDC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295-80C0-4401-9BC9-E94B40CCA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68C6B-9129-4B4B-BA5A-BE99DBFF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DD85E-1F56-4549-A6D6-BCD007BC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2B431D-70F5-4FBD-9095-5F4CEAE3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22110E-598E-4CD3-9B02-44769B97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D5CB53-B714-41A8-8D5C-3ECCB438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4A3-A4FC-41B8-826D-132D7AF8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A85B-68AD-46C1-8B7C-7F11B53C458B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D47D-E290-4944-B771-298225BB7192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09B5-6AC9-4A8D-B48A-ED0FD2E8861A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29C2-CF50-4478-8595-D1688E3D372A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9BF6-45DB-457C-A4B5-313827E0664E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9402-639C-4135-84CB-37CC3B7CCA0E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213B-048C-42F0-9B72-3039D96FFE60}" type="slidenum">
              <a:rPr b="1" lang="en-CA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c9gUm1mMzc&amp;feature=related" TargetMode="External"/><Relationship Id="rId2" Type="http://schemas.openxmlformats.org/officeDocument/2006/relationships/hyperlink" Target="http://projects.cbe.ab.ca/resources/cts/agr1030/resources/multimedia/transpiration.swf" TargetMode="Externa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LESSON #6:  TRANSPIR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lain how transpiration occur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61722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575f6d"/>
                </a:solidFill>
                <a:latin typeface="Century Schoolbook"/>
              </a:rPr>
              <a:t>TRANSPIRATION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907640" y="1268280"/>
            <a:ext cx="6550200" cy="51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612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WHAT IS IT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ranspiration is the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loss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of water from a pla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It’s caused by the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evaporation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of water from inside the leav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evaporation causes a slight shortage of water in the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leaf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, which causes it to draw more water up from the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plant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, which causes water to be drawn up from the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roots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via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cohesion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It has two beneficial effect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a) It transports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minerals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from the soil an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b) It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cools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the pla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FACTORS WHICH AFFECT TRANSPIRA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25000"/>
            <a:ext cx="7467480" cy="53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rate of transpiration is affected b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amount of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Amount of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air move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Humidity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of the surrounding ai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biggest rate of transpiration occurs in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hot, dry, windy, sunny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conditions (ie perfect to dry clothes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e slowest rate occurs in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cool, cloudy, damp, miserable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weather with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no wi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46784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WRITE A SHORT EXPLANATION WITH YOUR NEIGHBOUR:</a:t>
            </a:r>
            <a:br>
              <a:rPr sz="2400"/>
            </a:b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HOW DOES THE LEAF STRUCTURE HELP PREVENT EXCESSIVE WATER LOSS?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3492360" y="2205000"/>
            <a:ext cx="45054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496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575f6d"/>
                </a:solidFill>
                <a:latin typeface="Century Schoolbook"/>
              </a:rPr>
              <a:t>HOW DO PLANTS TRANSPORT WATER AND FOOD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765000"/>
            <a:ext cx="746748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Through the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Xylem</a:t>
            </a:r>
            <a:r>
              <a:rPr b="0" lang="en-CA" sz="24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entury Schoolbook"/>
              </a:rPr>
              <a:t>Using capillary ac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entury Schoolbook"/>
              </a:rPr>
              <a:t>Adhesion:  Surface of xylem (+ve) and water (-ve) molecule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entury Schoolbook"/>
              </a:rPr>
              <a:t>Cohesion: water to water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6327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://www.youtube.com/watch?v=mc9gUm1mMzc&amp;feature=rel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projects.cbe.ab.ca/resources/cts/agr1030/resources/multimedia/transpiration.sw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entury Schoolbook"/>
              </a:rPr>
              <a:t>Transpiration virtual lab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entury Schoolbook"/>
              </a:rPr>
              <a:t>http://www.mhhe.com/biosci/genbio/virtual_labs/BL_10/BL_10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RANSPIRATION VIRTUAL LAB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entury Schoolbook"/>
              </a:rPr>
              <a:t>http://www.mhhe.com/biosci/genbio/virtual_labs/BL_10/BL_10.htm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factor causes the highest rate of transpiration?  Wh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plant has the highest rate of transpiration?  Wh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ch plant has the lowest rate of transpiration?  Why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545e70"/>
                </a:solidFill>
                <a:latin typeface="Century Schoolbook"/>
              </a:rPr>
              <a:t>CAPILLARY ACTION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6840" y="692280"/>
            <a:ext cx="74674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Capillary action in plants is a good example of </a:t>
            </a:r>
            <a:r>
              <a:rPr b="1" lang="en-CA" sz="2000" spc="-1" strike="noStrike">
                <a:solidFill>
                  <a:srgbClr val="000000"/>
                </a:solidFill>
                <a:latin typeface="Century Schoolbook"/>
              </a:rPr>
              <a:t>adhesion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1" lang="en-CA" sz="2000" spc="-1" strike="noStrike">
                <a:solidFill>
                  <a:srgbClr val="000000"/>
                </a:solidFill>
                <a:latin typeface="Century Schoolbook"/>
              </a:rPr>
              <a:t>cohesion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The inner surface of the xylem contains positive and negative charges to which water forms hydrogen bonds. This is called </a:t>
            </a:r>
            <a:r>
              <a:rPr b="1" lang="en-CA" sz="2000" spc="-1" strike="noStrike">
                <a:solidFill>
                  <a:srgbClr val="000000"/>
                </a:solidFill>
                <a:latin typeface="Century Schoolbook"/>
              </a:rPr>
              <a:t>adhesion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As water creeps up the sides of the xylem (adhesion) the water molecules in the middle connect to other water molecules because of </a:t>
            </a:r>
            <a:r>
              <a:rPr b="1" lang="en-CA" sz="2000" spc="-1" strike="noStrike">
                <a:solidFill>
                  <a:srgbClr val="000000"/>
                </a:solidFill>
                <a:latin typeface="Century Schoolbook"/>
              </a:rPr>
              <a:t>cohesion</a:t>
            </a: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The water moves up as the water molecules at the top of the xylem enter the leaves and evaporates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entury Schoolbook"/>
              </a:rPr>
              <a:t>When a water molecule leaves the leaf, the molecule behind it moves up causing a general movement of the water up the tre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9T00:39:59Z</dcterms:created>
  <dc:creator>Laura</dc:creator>
  <dc:description/>
  <dc:language>en-US</dc:language>
  <cp:lastModifiedBy>USUARIO</cp:lastModifiedBy>
  <dcterms:modified xsi:type="dcterms:W3CDTF">2013-01-23T20:46:25Z</dcterms:modified>
  <cp:revision>18</cp:revision>
  <dc:subject/>
  <dc:title>Transpiration</dc:title>
</cp:coreProperties>
</file>